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13160"/>
            <a:ext cx="5029200" cy="40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OAGRO - Amstron 2008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A874-CE76-4BE8-AF4D-11F4505BBC2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13160"/>
            <a:ext cx="502920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4 Marcador de pie de página"/>
          <p:cNvSpPr/>
          <p:nvPr/>
        </p:nvSpPr>
        <p:spPr>
          <a:xfrm>
            <a:off x="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OAGRO - Amstron 2008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13160"/>
            <a:ext cx="502920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4 Marcador de pie de página"/>
          <p:cNvSpPr/>
          <p:nvPr/>
        </p:nvSpPr>
        <p:spPr>
          <a:xfrm>
            <a:off x="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OAGRO - Amstron 2008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13160"/>
            <a:ext cx="502920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4 Marcador de pie de página"/>
          <p:cNvSpPr/>
          <p:nvPr/>
        </p:nvSpPr>
        <p:spPr>
          <a:xfrm>
            <a:off x="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OAGRO - Amstron 2008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13160"/>
            <a:ext cx="502920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OAGRO - Amstron 2008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13160"/>
            <a:ext cx="502920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4 Marcador de pie de página"/>
          <p:cNvSpPr/>
          <p:nvPr/>
        </p:nvSpPr>
        <p:spPr>
          <a:xfrm>
            <a:off x="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OAGRO - Amstron 2008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13160"/>
            <a:ext cx="502920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4 Marcador de pie de página"/>
          <p:cNvSpPr/>
          <p:nvPr/>
        </p:nvSpPr>
        <p:spPr>
          <a:xfrm>
            <a:off x="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OAGRO - Amstron 2008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13160"/>
            <a:ext cx="502920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4 Marcador de pie de página"/>
          <p:cNvSpPr/>
          <p:nvPr/>
        </p:nvSpPr>
        <p:spPr>
          <a:xfrm>
            <a:off x="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OAGRO - Amstron 2008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13160"/>
            <a:ext cx="502920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4 Marcador de pie de página"/>
          <p:cNvSpPr/>
          <p:nvPr/>
        </p:nvSpPr>
        <p:spPr>
          <a:xfrm>
            <a:off x="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OAGRO - Amstron 2008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D4D-93C2-48BE-9BA3-F121881A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9E1B-BA83-4143-979E-07E72EE8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198-9653-4FF5-BCD1-72A31F3B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8F0-D452-4459-85CD-36B9BAF0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4640-DB4C-4AE2-9224-F51E22D2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27D-83AC-429B-9734-E69BBEEF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8EC0-843E-4381-B15F-16543CCA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A453-FA05-4A84-AC03-5645C371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640" y="90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2D3C-1DE7-4E97-A599-34AEE58F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5E50-BA21-4F8D-9AD7-E723AAA2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0AB-379C-4C51-801B-B8BA676B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6F95-1906-46A5-BCDC-F5657198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534960" y="404640"/>
            <a:ext cx="50468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FrnkGothITC Bk BT"/>
              </a:rPr>
              <a:t>UNIVERSIDAD NACIONAL DEL LITORAL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d4d4d"/>
                </a:solidFill>
                <a:latin typeface="FrnkGothITC Bk BT"/>
              </a:rPr>
              <a:t>Secretaría de Vinculación Tecnológica y Desarrollo Productivo</a:t>
            </a:r>
            <a:endParaRPr b="1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324000" y="907920"/>
            <a:ext cx="8496000" cy="56898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" name="Picture 6" descr="unl-vinculacion1"/>
          <p:cNvPicPr/>
          <p:nvPr/>
        </p:nvPicPr>
        <p:blipFill>
          <a:blip r:embed="rId2"/>
          <a:srcRect l="1346" t="0" r="0" b="816"/>
          <a:stretch/>
        </p:blipFill>
        <p:spPr>
          <a:xfrm>
            <a:off x="8007480" y="333360"/>
            <a:ext cx="571320" cy="9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date/time&gt;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footer&gt;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4574-8F06-4D46-9B66-2697245BEC88}" type="slidenum"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1"/>
          <p:cNvSpPr/>
          <p:nvPr/>
        </p:nvSpPr>
        <p:spPr>
          <a:xfrm>
            <a:off x="3635280" y="907920"/>
            <a:ext cx="50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Franklin Gothic Demi"/>
              </a:rPr>
              <a:t>UNIVERSIDAD NACIONAL DEL LITORAL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571920" y="3214800"/>
            <a:ext cx="50324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4d4d4d"/>
                </a:solidFill>
                <a:latin typeface="FrnkGothITC Bk BT"/>
              </a:rPr>
              <a:t>Presentación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Franklin Gothic Demi"/>
              </a:rPr>
              <a:t>Desafíos y Oportunidades de la vinculación de las universidades con los Parques Industriales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d4d4d"/>
                </a:solidFill>
                <a:latin typeface="FrnkGothITC Bk BT"/>
              </a:rPr>
              <a:t> </a:t>
            </a:r>
            <a:r>
              <a:rPr b="1" lang="es-ES_tradnl" sz="2400" spc="-1" strike="noStrike">
                <a:solidFill>
                  <a:srgbClr val="4d4d4d"/>
                </a:solidFill>
                <a:latin typeface="Franklin Gothic Demi"/>
              </a:rPr>
              <a:t>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3" name="Picture 15" descr="unl-vinculacion1"/>
          <p:cNvPicPr/>
          <p:nvPr/>
        </p:nvPicPr>
        <p:blipFill>
          <a:blip r:embed="rId1"/>
          <a:stretch/>
        </p:blipFill>
        <p:spPr>
          <a:xfrm>
            <a:off x="574560" y="257040"/>
            <a:ext cx="720720" cy="1190880"/>
          </a:xfrm>
          <a:prstGeom prst="rect">
            <a:avLst/>
          </a:prstGeom>
          <a:ln w="0">
            <a:noFill/>
          </a:ln>
        </p:spPr>
      </p:pic>
      <p:sp>
        <p:nvSpPr>
          <p:cNvPr id="54" name="5 CuadroTexto"/>
          <p:cNvSpPr/>
          <p:nvPr/>
        </p:nvSpPr>
        <p:spPr>
          <a:xfrm>
            <a:off x="1619280" y="1557360"/>
            <a:ext cx="7000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Book"/>
              </a:rPr>
              <a:t>IX Reunión Plenaria RedVITEC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ranklin Gothic Book"/>
              </a:rPr>
              <a:t>Las Universidades y su relación con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Franklin Gothic Book"/>
              </a:rPr>
              <a:t>los Entornos Productivos Regionales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" name="6 Rectángulo"/>
          <p:cNvSpPr/>
          <p:nvPr/>
        </p:nvSpPr>
        <p:spPr>
          <a:xfrm>
            <a:off x="1692360" y="59500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Franklin Gothic Book"/>
              </a:rPr>
              <a:t>Santiago del Estero, 29 y 30 de Mayo de 2008</a:t>
            </a:r>
            <a:r>
              <a:rPr b="1" lang="es-ES_tradnl" sz="1800" spc="-1" strike="noStrike">
                <a:solidFill>
                  <a:srgbClr val="4d4d4d"/>
                </a:solidFill>
                <a:latin typeface="Franklin Gothic Book"/>
              </a:rPr>
              <a:t>. 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Franklin Gothic Book"/>
              </a:rPr>
              <a:t>Convenio</a:t>
            </a:r>
            <a:r>
              <a:rPr b="0" lang="es-AR" sz="1000" spc="-1" strike="noStrike">
                <a:solidFill>
                  <a:srgbClr val="ffffff"/>
                </a:solidFill>
                <a:latin typeface="Franklin Gothic Book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Franklin Gothic Book"/>
              </a:rPr>
              <a:t>Prefactibilidad de implantación de un Área Industrial en el distrito de Santo Tomé - Prov. de Santa F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Universidad Nacional del Litoral y la Municipalidad de Santo Tomé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Objetivos del estudio, Segunda Fase (2004-2005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Franklin Gothic Book"/>
              </a:rPr>
              <a:t>Actualizar la propuesta original, tanto en sus y límites, como en nuevos tipos de zonificaciones internas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11800" indent="-280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Franklin Gothic Book"/>
              </a:rPr>
              <a:t>Realizar en forma expeditiva un análisis de viabilidad ambiental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11800" indent="-280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Franklin Gothic Book"/>
              </a:rPr>
              <a:t>Analizar el estado de usos del suelo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11800" indent="-280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Franklin Gothic Book"/>
              </a:rPr>
              <a:t>Analizar los cambios desarrollados en infraestructura tanto a nivel urbana, como regional (drenajes urbanos, extensión de la red  de agua potable, cambio de fuente de agua potable, puente Santa Fe Santo Tomé, etc) 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11800" indent="-280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Franklin Gothic Book"/>
              </a:rPr>
              <a:t>Costear la infraestructura necesaria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11800" indent="-280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Franklin Gothic Book"/>
              </a:rPr>
              <a:t>Analizar la viabilidad del desarrollo de una estructura técnica de incubación externada de empresas.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11800" indent="-280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Franklin Gothic Book"/>
              </a:rPr>
              <a:t>Determinar superficies aprovechables, y costos emergentes para los usuarios sobre la base de diversos escenarios de recupero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Franklin Gothic Book"/>
              </a:rPr>
              <a:t>Identificar actores potencialmente interesados en asociarse o cooperar con dicho desarrollo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Franklin Gothic Book"/>
              </a:rPr>
              <a:t>Identificar fuentes de financiamiento potenciales (tanto bajo la modalidad de “con” como “sin” reintegro)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UNL – Parques Industriales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Proyecto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Áreas y Parques Industriales con servicios tecnológicos”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CFI - Consejo Federal de Inversione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Gobierno de la Provincia de Entre Río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2003 – 2004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Objetivo: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Proveer a los organismos responsables de áreas y parques industriales de capacidades para sumar servicios tecnológicos dentro de su gestión para adquirir, de este modo, ventajas competitivas para las empresas allí radicadas y eventualmente a las de sus zonas de influencia.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Objetivo específico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Formación de </a:t>
            </a: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Nodos Locales</a:t>
            </a: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, adecuadamente capacitados para detectar en forma permanente las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Franklin Gothic Book"/>
              </a:rPr>
              <a:t>Demandas Tecnológicas</a:t>
            </a: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(DT),</a:t>
            </a: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 y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Franklin Gothic Book"/>
              </a:rPr>
              <a:t>Necesidades de Investigación</a:t>
            </a: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Franklin Gothic Book"/>
              </a:rPr>
              <a:t>(NI)</a:t>
            </a:r>
            <a:r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 a ser canalizadas al sistema de Ciencia y Tecnología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UNL – Parques Industriales con Servicios Tecnológicos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Proyecto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Áreas y Parques Industriales con servicios tecnológicos”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CFI - Consejo Federal de Inversione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Gobierno de la Provincia de Entre Río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2003 – 2004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Parque Industrial “Gral. Belgrano” de Paraná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Parque Industrial de Gualeguaychú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Parque Industrial de Concepción del Urugua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Parque Industrial de Concordi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Area Industrial de Rosario del Tal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Incubadora de Empresas de María Grand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UNL – Parques Industriales con Servicios Tecnológicos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19520" y="1419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387440" y="1773360"/>
            <a:ext cx="6618240" cy="4477680"/>
            <a:chOff x="1387440" y="1773360"/>
            <a:chExt cx="6618240" cy="4477680"/>
          </a:xfrm>
        </p:grpSpPr>
        <p:grpSp>
          <p:nvGrpSpPr>
            <p:cNvPr id="96" name=""/>
            <p:cNvGrpSpPr/>
            <p:nvPr/>
          </p:nvGrpSpPr>
          <p:grpSpPr>
            <a:xfrm>
              <a:off x="3691080" y="1773360"/>
              <a:ext cx="1793880" cy="971640"/>
              <a:chOff x="3691080" y="1773360"/>
              <a:chExt cx="1793880" cy="971640"/>
            </a:xfrm>
          </p:grpSpPr>
          <p:sp>
            <p:nvSpPr>
              <p:cNvPr id="97" name=""/>
              <p:cNvSpPr/>
              <p:nvPr/>
            </p:nvSpPr>
            <p:spPr>
              <a:xfrm>
                <a:off x="3691080" y="1773360"/>
                <a:ext cx="1793880" cy="971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68840" y="1922760"/>
                <a:ext cx="163980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s-ES_tradnl" sz="1800" spc="-1" strike="noStrike">
                    <a:solidFill>
                      <a:srgbClr val="336699"/>
                    </a:solidFill>
                    <a:latin typeface="Arial Narrow"/>
                  </a:rPr>
                  <a:t>Entorno</a:t>
                </a:r>
                <a:endPara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s-ES_tradnl" sz="1800" spc="-1" strike="noStrike">
                    <a:solidFill>
                      <a:srgbClr val="336699"/>
                    </a:solidFill>
                    <a:latin typeface="Arial Narrow"/>
                  </a:rPr>
                  <a:t>Financiero</a:t>
                </a:r>
                <a:endPara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 flipV="1">
              <a:off x="2611440" y="2494080"/>
              <a:ext cx="1224000" cy="1008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5419800" y="2494080"/>
              <a:ext cx="1224000" cy="1008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24160" y="4023000"/>
              <a:ext cx="2971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1387440" y="3502080"/>
              <a:ext cx="1793880" cy="971640"/>
              <a:chOff x="1387440" y="3502080"/>
              <a:chExt cx="1793880" cy="971640"/>
            </a:xfrm>
          </p:grpSpPr>
          <p:sp>
            <p:nvSpPr>
              <p:cNvPr id="103" name=""/>
              <p:cNvSpPr/>
              <p:nvPr/>
            </p:nvSpPr>
            <p:spPr>
              <a:xfrm>
                <a:off x="1387440" y="3502080"/>
                <a:ext cx="1793880" cy="971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63400" y="3651480"/>
                <a:ext cx="164016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s-ES_tradnl" sz="1800" spc="-1" strike="noStrike">
                    <a:solidFill>
                      <a:srgbClr val="336699"/>
                    </a:solidFill>
                    <a:latin typeface="Arial Narrow"/>
                  </a:rPr>
                  <a:t>Entorno</a:t>
                </a:r>
                <a:endPara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s-ES_tradnl" sz="1800" spc="-1" strike="noStrike">
                    <a:solidFill>
                      <a:srgbClr val="336699"/>
                    </a:solidFill>
                    <a:latin typeface="Arial Narrow"/>
                  </a:rPr>
                  <a:t>Productivo</a:t>
                </a:r>
                <a:endPara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691080" y="4942080"/>
              <a:ext cx="2000160" cy="975240"/>
              <a:chOff x="3691080" y="4942080"/>
              <a:chExt cx="2000160" cy="975240"/>
            </a:xfrm>
          </p:grpSpPr>
          <p:sp>
            <p:nvSpPr>
              <p:cNvPr id="106" name=""/>
              <p:cNvSpPr/>
              <p:nvPr/>
            </p:nvSpPr>
            <p:spPr>
              <a:xfrm>
                <a:off x="3794400" y="4943520"/>
                <a:ext cx="1793880" cy="971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91080" y="4942080"/>
                <a:ext cx="2000160" cy="97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s-ES_tradnl" sz="1800" spc="-1" strike="noStrike">
                    <a:solidFill>
                      <a:srgbClr val="336699"/>
                    </a:solidFill>
                    <a:latin typeface="Arial Narrow"/>
                  </a:rPr>
                  <a:t>Entorno</a:t>
                </a:r>
                <a:endPara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s-ES_tradnl" sz="1800" spc="-1" strike="noStrike">
                    <a:solidFill>
                      <a:srgbClr val="336699"/>
                    </a:solidFill>
                    <a:latin typeface="Arial Narrow"/>
                  </a:rPr>
                  <a:t>Tecnológico y Serv.Avanz.</a:t>
                </a:r>
                <a:endPara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211800" y="3502080"/>
              <a:ext cx="1793880" cy="971640"/>
              <a:chOff x="6211800" y="3502080"/>
              <a:chExt cx="1793880" cy="971640"/>
            </a:xfrm>
          </p:grpSpPr>
          <p:sp>
            <p:nvSpPr>
              <p:cNvPr id="109" name=""/>
              <p:cNvSpPr/>
              <p:nvPr/>
            </p:nvSpPr>
            <p:spPr>
              <a:xfrm>
                <a:off x="6211800" y="3502080"/>
                <a:ext cx="1793880" cy="971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289560" y="3651480"/>
                <a:ext cx="1639800" cy="6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s-ES_tradnl" sz="1800" spc="-1" strike="noStrike">
                    <a:solidFill>
                      <a:srgbClr val="336699"/>
                    </a:solidFill>
                    <a:latin typeface="Arial Narrow"/>
                  </a:rPr>
                  <a:t>Entorno</a:t>
                </a:r>
                <a:endPara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1" lang="es-ES_tradnl" sz="1800" spc="-1" strike="noStrike">
                    <a:solidFill>
                      <a:srgbClr val="336699"/>
                    </a:solidFill>
                    <a:latin typeface="Arial Narrow"/>
                  </a:rPr>
                  <a:t>Científico</a:t>
                </a:r>
                <a:endPara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 flipV="1">
              <a:off x="5491080" y="4365360"/>
              <a:ext cx="1152720" cy="865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2827440" y="4438440"/>
              <a:ext cx="1079280" cy="93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14720" y="2062440"/>
              <a:ext cx="473040" cy="299880"/>
            </a:xfrm>
            <a:prstGeom prst="flowChartAlternateProcess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1" lang="en-US" sz="1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95760" y="3032280"/>
              <a:ext cx="0" cy="198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61000">
              <a:off x="1909800" y="4104720"/>
              <a:ext cx="797040" cy="673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61"/>
                  </a:moveTo>
                  <a:arcTo wR="10800" hR="10800" stAng="-12338" swAng="1009984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61"/>
                  </a:moveTo>
                  <a:arcTo wR="10800" hR="10800" stAng="-12338" swAng="10099843"/>
                </a:path>
              </a:pathLst>
            </a:custGeom>
            <a:noFill/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61000">
              <a:off x="4352400" y="2469240"/>
              <a:ext cx="686880" cy="516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61"/>
                  </a:moveTo>
                  <a:arcTo wR="10800" hR="10800" stAng="-12338" swAng="12007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61"/>
                  </a:moveTo>
                  <a:arcTo wR="10800" hR="10800" stAng="-12338" swAng="12007069"/>
                </a:path>
              </a:pathLst>
            </a:custGeom>
            <a:noFill/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61000">
              <a:off x="6721920" y="4279320"/>
              <a:ext cx="823680" cy="45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305" y="4144"/>
                  </a:moveTo>
                  <a:arcTo wR="10800" hR="10800" stAng="-2282632" swAng="142773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305" y="4144"/>
                  </a:moveTo>
                  <a:arcTo wR="10800" hR="10800" stAng="-2282632" swAng="14277363"/>
                </a:path>
              </a:pathLst>
            </a:custGeom>
            <a:noFill/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61000">
              <a:off x="4287240" y="5563800"/>
              <a:ext cx="692640" cy="63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61"/>
                  </a:moveTo>
                  <a:arcTo wR="10800" hR="10800" stAng="-12338" swAng="1019260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61"/>
                  </a:moveTo>
                  <a:arcTo wR="10800" hR="10800" stAng="-12338" swAng="10192601"/>
                </a:path>
              </a:pathLst>
            </a:custGeom>
            <a:noFill/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62360" y="2710080"/>
              <a:ext cx="473040" cy="299880"/>
            </a:xfrm>
            <a:prstGeom prst="flowChartAlternateProcess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1" lang="en-US" sz="1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2062440"/>
              <a:ext cx="473040" cy="299880"/>
            </a:xfrm>
            <a:prstGeom prst="flowChartAlternateProcess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1" lang="en-US" sz="1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35440" y="3502080"/>
              <a:ext cx="473400" cy="300240"/>
            </a:xfrm>
            <a:prstGeom prst="flowChartAlternateProcess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1" lang="en-US" sz="1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23080" y="4222800"/>
              <a:ext cx="473040" cy="300240"/>
            </a:xfrm>
            <a:prstGeom prst="flowChartAlternateProcess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1" lang="en-US" sz="1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70720" y="4726080"/>
              <a:ext cx="473040" cy="300240"/>
            </a:xfrm>
            <a:prstGeom prst="flowChartAlternateProcess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1" lang="en-US" sz="1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07080" y="5446800"/>
              <a:ext cx="473040" cy="300240"/>
            </a:xfrm>
            <a:prstGeom prst="flowChartAlternateProcess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1" lang="en-US" sz="1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35440" y="4797720"/>
              <a:ext cx="473040" cy="299880"/>
            </a:xfrm>
            <a:prstGeom prst="flowChartAlternateProcess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1" lang="en-US" sz="1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59080" y="4149720"/>
              <a:ext cx="473040" cy="300240"/>
            </a:xfrm>
            <a:prstGeom prst="flowChartAlternateProcess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1" lang="en-US" sz="1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59080" y="3502080"/>
              <a:ext cx="473040" cy="300240"/>
            </a:xfrm>
            <a:prstGeom prst="flowChartAlternateProcess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1" lang="en-US" sz="1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06720" y="3202200"/>
              <a:ext cx="473040" cy="299880"/>
            </a:xfrm>
            <a:prstGeom prst="flowChartAlternateProcess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000000"/>
                  </a:solidFill>
                  <a:latin typeface="Arial"/>
                </a:rPr>
                <a:t>EDI</a:t>
              </a:r>
              <a:endParaRPr b="1" lang="en-US" sz="1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00000" y="1557360"/>
            <a:ext cx="7470720" cy="4968720"/>
          </a:xfrm>
          <a:prstGeom prst="rect">
            <a:avLst/>
          </a:prstGeom>
          <a:noFill/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205000"/>
            <a:ext cx="287280" cy="30657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INSTITUCIONAL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18440" y="3070080"/>
            <a:ext cx="304920" cy="2253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E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G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27440" y="1413000"/>
            <a:ext cx="2438280" cy="3225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M A R C O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981000"/>
            <a:ext cx="71391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Franklin Gothic Demi"/>
              </a:rPr>
              <a:t>Sistema Nacional de Innovación - SNI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19520" y="1419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691080" y="1773360"/>
            <a:ext cx="1793880" cy="971280"/>
            <a:chOff x="3691080" y="1773360"/>
            <a:chExt cx="1793880" cy="971280"/>
          </a:xfrm>
        </p:grpSpPr>
        <p:sp>
          <p:nvSpPr>
            <p:cNvPr id="136" name=""/>
            <p:cNvSpPr/>
            <p:nvPr/>
          </p:nvSpPr>
          <p:spPr>
            <a:xfrm>
              <a:off x="3691080" y="1773360"/>
              <a:ext cx="1793880" cy="9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68840" y="1922400"/>
              <a:ext cx="163980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Entorno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Financiero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2611440" y="2494080"/>
            <a:ext cx="1224000" cy="100800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19800" y="2494080"/>
            <a:ext cx="1224000" cy="100800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24160" y="4022640"/>
            <a:ext cx="29718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87440" y="3502080"/>
            <a:ext cx="1793880" cy="971640"/>
            <a:chOff x="1387440" y="3502080"/>
            <a:chExt cx="1793880" cy="971640"/>
          </a:xfrm>
        </p:grpSpPr>
        <p:sp>
          <p:nvSpPr>
            <p:cNvPr id="142" name=""/>
            <p:cNvSpPr/>
            <p:nvPr/>
          </p:nvSpPr>
          <p:spPr>
            <a:xfrm>
              <a:off x="1387440" y="3502080"/>
              <a:ext cx="1793880" cy="9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63400" y="3651480"/>
              <a:ext cx="164016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Entorno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Productivo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91080" y="4941720"/>
            <a:ext cx="2000160" cy="975240"/>
            <a:chOff x="3691080" y="4941720"/>
            <a:chExt cx="2000160" cy="975240"/>
          </a:xfrm>
        </p:grpSpPr>
        <p:sp>
          <p:nvSpPr>
            <p:cNvPr id="145" name=""/>
            <p:cNvSpPr/>
            <p:nvPr/>
          </p:nvSpPr>
          <p:spPr>
            <a:xfrm>
              <a:off x="3794400" y="4943160"/>
              <a:ext cx="1793880" cy="9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91080" y="4941720"/>
              <a:ext cx="200016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Entorno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Tecnológico y Serv.Avanz.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11800" y="3502080"/>
            <a:ext cx="1793880" cy="971640"/>
            <a:chOff x="6211800" y="3502080"/>
            <a:chExt cx="1793880" cy="971640"/>
          </a:xfrm>
        </p:grpSpPr>
        <p:sp>
          <p:nvSpPr>
            <p:cNvPr id="148" name=""/>
            <p:cNvSpPr/>
            <p:nvPr/>
          </p:nvSpPr>
          <p:spPr>
            <a:xfrm>
              <a:off x="6211800" y="3502080"/>
              <a:ext cx="1793880" cy="9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89560" y="3651480"/>
              <a:ext cx="163980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Entorno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Científico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V="1">
            <a:off x="5491080" y="4365360"/>
            <a:ext cx="1152720" cy="865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827440" y="4438440"/>
            <a:ext cx="1079280" cy="93492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95760" y="3032280"/>
            <a:ext cx="0" cy="1981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61000">
            <a:off x="1909800" y="4104720"/>
            <a:ext cx="797040" cy="67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61"/>
                </a:moveTo>
                <a:arcTo wR="10800" hR="10800" stAng="-12338" swAng="10099843"/>
                <a:lnTo>
                  <a:pt x="10800" y="10800"/>
                </a:lnTo>
                <a:close/>
              </a:path>
              <a:path fill="none" w="21600" h="21600">
                <a:moveTo>
                  <a:pt x="21600" y="10761"/>
                </a:moveTo>
                <a:arcTo wR="10800" hR="10800" stAng="-12338" swAng="10099843"/>
              </a:path>
            </a:pathLst>
          </a:custGeom>
          <a:noFill/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61000">
            <a:off x="4352760" y="2469600"/>
            <a:ext cx="686880" cy="515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61"/>
                </a:moveTo>
                <a:arcTo wR="10800" hR="10800" stAng="-12338" swAng="12007069"/>
                <a:lnTo>
                  <a:pt x="10800" y="10800"/>
                </a:lnTo>
                <a:close/>
              </a:path>
              <a:path fill="none" w="21600" h="21600">
                <a:moveTo>
                  <a:pt x="21600" y="10761"/>
                </a:moveTo>
                <a:arcTo wR="10800" hR="10800" stAng="-12338" swAng="12007069"/>
              </a:path>
            </a:pathLst>
          </a:custGeom>
          <a:noFill/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61000">
            <a:off x="6721920" y="4279320"/>
            <a:ext cx="823680" cy="452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05" y="4144"/>
                </a:moveTo>
                <a:arcTo wR="10800" hR="10800" stAng="-2282632" swAng="14277363"/>
                <a:lnTo>
                  <a:pt x="10800" y="10800"/>
                </a:lnTo>
                <a:close/>
              </a:path>
              <a:path fill="none" w="21600" h="21600">
                <a:moveTo>
                  <a:pt x="19305" y="4144"/>
                </a:moveTo>
                <a:arcTo wR="10800" hR="10800" stAng="-2282632" swAng="14277363"/>
              </a:path>
            </a:pathLst>
          </a:custGeom>
          <a:noFill/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61000">
            <a:off x="4287240" y="5563080"/>
            <a:ext cx="692640" cy="63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61"/>
                </a:moveTo>
                <a:arcTo wR="10800" hR="10800" stAng="-12338" swAng="10192601"/>
                <a:lnTo>
                  <a:pt x="10800" y="10800"/>
                </a:lnTo>
                <a:close/>
              </a:path>
              <a:path fill="none" w="21600" h="21600">
                <a:moveTo>
                  <a:pt x="21600" y="10761"/>
                </a:moveTo>
                <a:arcTo wR="10800" hR="10800" stAng="-12338" swAng="10192601"/>
              </a:path>
            </a:pathLst>
          </a:custGeom>
          <a:noFill/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35800" y="3502080"/>
            <a:ext cx="473040" cy="299880"/>
          </a:xfrm>
          <a:prstGeom prst="flowChartAlternateProcess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23080" y="4222800"/>
            <a:ext cx="473040" cy="299880"/>
          </a:xfrm>
          <a:prstGeom prst="flowChartAlternateProcess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70720" y="4726080"/>
            <a:ext cx="473040" cy="299880"/>
          </a:xfrm>
          <a:prstGeom prst="flowChartAlternateProcess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07080" y="5446800"/>
            <a:ext cx="473040" cy="299880"/>
          </a:xfrm>
          <a:prstGeom prst="flowChartAlternateProcess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59080" y="4149720"/>
            <a:ext cx="473040" cy="299880"/>
          </a:xfrm>
          <a:prstGeom prst="flowChartAlternateProcess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1557360"/>
            <a:ext cx="7470720" cy="4968720"/>
          </a:xfrm>
          <a:prstGeom prst="rect">
            <a:avLst/>
          </a:prstGeom>
          <a:noFill/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2205000"/>
            <a:ext cx="287280" cy="30657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INSTITUCIONAL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18440" y="3070080"/>
            <a:ext cx="304920" cy="2253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E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G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7440" y="1413000"/>
            <a:ext cx="2438280" cy="3225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M A R C O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981000"/>
            <a:ext cx="71391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Franklin Gothic Demi"/>
              </a:rPr>
              <a:t>Sistema Nacional de Innovación - SNI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819520" y="1419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24160" y="4022640"/>
            <a:ext cx="29718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387440" y="3502080"/>
            <a:ext cx="1793880" cy="971640"/>
            <a:chOff x="1387440" y="3502080"/>
            <a:chExt cx="1793880" cy="971640"/>
          </a:xfrm>
        </p:grpSpPr>
        <p:sp>
          <p:nvSpPr>
            <p:cNvPr id="170" name=""/>
            <p:cNvSpPr/>
            <p:nvPr/>
          </p:nvSpPr>
          <p:spPr>
            <a:xfrm>
              <a:off x="1387440" y="3502080"/>
              <a:ext cx="1793880" cy="9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63400" y="3651480"/>
              <a:ext cx="164016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Parque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Industrial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211800" y="3502080"/>
            <a:ext cx="1793880" cy="971640"/>
            <a:chOff x="6211800" y="3502080"/>
            <a:chExt cx="1793880" cy="971640"/>
          </a:xfrm>
        </p:grpSpPr>
        <p:sp>
          <p:nvSpPr>
            <p:cNvPr id="173" name=""/>
            <p:cNvSpPr/>
            <p:nvPr/>
          </p:nvSpPr>
          <p:spPr>
            <a:xfrm>
              <a:off x="6211800" y="3502080"/>
              <a:ext cx="1793880" cy="9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89560" y="3651480"/>
              <a:ext cx="163980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Entorno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s-ES_tradnl" sz="1800" spc="-1" strike="noStrike">
                  <a:solidFill>
                    <a:srgbClr val="336699"/>
                  </a:solidFill>
                  <a:latin typeface="Arial Narrow"/>
                </a:rPr>
                <a:t>Científico</a:t>
              </a:r>
              <a:endParaRPr b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rot="561000">
            <a:off x="6721920" y="4279320"/>
            <a:ext cx="823680" cy="452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05" y="4144"/>
                </a:moveTo>
                <a:arcTo wR="10800" hR="10800" stAng="-2282632" swAng="14277363"/>
                <a:lnTo>
                  <a:pt x="10800" y="10800"/>
                </a:lnTo>
                <a:close/>
              </a:path>
              <a:path fill="none" w="21600" h="21600">
                <a:moveTo>
                  <a:pt x="19305" y="4144"/>
                </a:moveTo>
                <a:arcTo wR="10800" hR="10800" stAng="-2282632" swAng="14277363"/>
              </a:path>
            </a:pathLst>
          </a:custGeom>
          <a:noFill/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5800" y="3502080"/>
            <a:ext cx="473040" cy="299880"/>
          </a:xfrm>
          <a:prstGeom prst="flowChartAlternateProcess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23080" y="4222800"/>
            <a:ext cx="473040" cy="299880"/>
          </a:xfrm>
          <a:prstGeom prst="flowChartAlternateProcess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70720" y="4726080"/>
            <a:ext cx="473040" cy="299880"/>
          </a:xfrm>
          <a:prstGeom prst="flowChartAlternateProcess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9080" y="4149720"/>
            <a:ext cx="473040" cy="299880"/>
          </a:xfrm>
          <a:prstGeom prst="flowChartAlternateProcess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1557360"/>
            <a:ext cx="7470720" cy="4968720"/>
          </a:xfrm>
          <a:prstGeom prst="rect">
            <a:avLst/>
          </a:prstGeom>
          <a:noFill/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5640" y="2205000"/>
            <a:ext cx="287280" cy="30657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INSTITUCIONAL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18440" y="3070080"/>
            <a:ext cx="304920" cy="22536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E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G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27440" y="1413000"/>
            <a:ext cx="2438280" cy="3225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M A R C O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981000"/>
            <a:ext cx="71391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Franklin Gothic Demi"/>
              </a:rPr>
              <a:t>Sistema Nacional de Innovación - SNI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Franklin Gothic Book"/>
              </a:rPr>
              <a:t>Servicios iniciales a incorporar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Identificación de Demandas de Tecnología y de Necesidades de Investigación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Manejo de oferta tecnológica regional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Manejo de oferta de financiamiento de la innovación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Capacidad de formulación de proyecto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Simplificación del acceso al financiamiento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Apoyo al proceso de internacionalizació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Organización de la cooperación interterritorial entre empresa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Instalación de nuevas empresas en incubadora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Formación empresaria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Apoyo a las demandas del mismo parq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Capacidades de trabajo conjunto a distancia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UNL – Parques Industriales con Servicios Tecnológicos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9640" y="4365720"/>
            <a:ext cx="4248360" cy="35856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Proyecto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Áreas y Parques Industriales con servicios tecnológicos”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CFI - Consejo Federal de Inversione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Gobierno de la Provincia de Entre Río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2003 – 2004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Parque Industrial “Gral. Belgrano” de Paraná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Parque Industrial de Gualeguaychú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Parque Industrial de Concepción del Uruguay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Parque Industrial de Concordi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Area Industrial de Rosario del Tal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Aft>
                <a:spcPts val="1001"/>
              </a:spcAft>
              <a:buClr>
                <a:srgbClr val="ffffff"/>
              </a:buClr>
              <a:buFont typeface="Franklin Gothic Book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Incubadora de Empresas de María Grand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UNL – Parques Industriales con Servicios Tecnológicos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468360" y="2209680"/>
            <a:ext cx="72676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Franklin Gothic Demi"/>
              </a:rPr>
              <a:t>Muchas gracias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Franklin Gothic Book"/>
              </a:rPr>
              <a:t>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Book"/>
              </a:rPr>
              <a:t>Ing. Daniel Scacchi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Book"/>
              </a:rPr>
              <a:t>Director CETRI Litoral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Centro para la Transferencia de los </a:t>
            </a:r>
            <a:br>
              <a:rPr sz="1400"/>
            </a:br>
            <a:r>
              <a:rPr b="0" lang="es-ES_tradnl" sz="1400" spc="-1" strike="noStrike">
                <a:solidFill>
                  <a:srgbClr val="ffffff"/>
                </a:solidFill>
                <a:latin typeface="Franklin Gothic Book"/>
              </a:rPr>
              <a:t>Resultados de la Investigación</a:t>
            </a:r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Franklin Gothic Demi"/>
              </a:rPr>
              <a:t>cetri@unl.edu.ar 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34960" y="404640"/>
            <a:ext cx="50468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FrnkGothITC Bk BT"/>
              </a:rPr>
              <a:t>UNIVERSIDAD NACIONAL DEL LITORAL</a:t>
            </a: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d4d4d"/>
                </a:solidFill>
                <a:latin typeface="FrnkGothITC Bk BT"/>
              </a:rPr>
              <a:t>Secretaría de Vinculación Tecnológica y Desarrollo Productivo</a:t>
            </a:r>
            <a:endParaRPr b="1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24000" y="907920"/>
            <a:ext cx="8496000" cy="56898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06080" y="1295280"/>
            <a:ext cx="53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Franklin Gothic Demi"/>
              </a:rPr>
              <a:t>Vinculación con el sector productivo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42880" y="2117880"/>
            <a:ext cx="79898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Franklin Gothic Book"/>
              </a:rPr>
              <a:t>A partir de 4 ejes de trabajo: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Franklin Gothic Book"/>
              </a:rPr>
              <a:t>Inserción de profesionales en empresas. Programa Universidad-Trabajo e inserción de graduados.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Franklin Gothic Book"/>
              </a:rPr>
              <a:t>Desarrollo y transferencia de conocimientos por medio de servicios (capacitación, asesoramiento, ensayo, desarrollo, investigación concertada, gestión tecnológica).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Franklin Gothic Book"/>
              </a:rPr>
              <a:t>Creación de nuevas empresas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Franklin Gothic Book"/>
              </a:rPr>
              <a:t>Proyectos de apropiación social.</a:t>
            </a:r>
            <a:endParaRPr b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0" name="Picture 6" descr="unl-vinculacion1"/>
          <p:cNvPicPr/>
          <p:nvPr/>
        </p:nvPicPr>
        <p:blipFill>
          <a:blip r:embed="rId1"/>
          <a:stretch/>
        </p:blipFill>
        <p:spPr>
          <a:xfrm>
            <a:off x="8001000" y="333360"/>
            <a:ext cx="57780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UNL – Parques Industriales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Incubadora de Empresa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Parque Tecnológico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Parques Industrial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Parques Industriales + Servicios Tecnológico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0"/>
          <p:cNvSpPr/>
          <p:nvPr/>
        </p:nvSpPr>
        <p:spPr>
          <a:xfrm>
            <a:off x="546120" y="1052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Incubación de Empresas: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4" name="Picture 135" descr="parque1_r2_c2"/>
          <p:cNvPicPr/>
          <p:nvPr/>
        </p:nvPicPr>
        <p:blipFill>
          <a:blip r:embed="rId1"/>
          <a:srcRect l="4468" t="44472" r="11312" b="8794"/>
          <a:stretch/>
        </p:blipFill>
        <p:spPr>
          <a:xfrm>
            <a:off x="536400" y="2722680"/>
            <a:ext cx="2678400" cy="3298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8" descr="LOGO 2"/>
          <p:cNvPicPr/>
          <p:nvPr/>
        </p:nvPicPr>
        <p:blipFill>
          <a:blip r:embed="rId2"/>
          <a:srcRect l="0" t="0" r="0" b="14679"/>
          <a:stretch/>
        </p:blipFill>
        <p:spPr>
          <a:xfrm>
            <a:off x="539640" y="4930920"/>
            <a:ext cx="1368360" cy="11379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2"/>
          <p:cNvSpPr/>
          <p:nvPr/>
        </p:nvSpPr>
        <p:spPr>
          <a:xfrm>
            <a:off x="4071960" y="2086920"/>
            <a:ext cx="4500720" cy="402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Ideas  Negocio Pre- Incubadas</a:t>
            </a:r>
            <a:endParaRPr b="1" lang="en-US" sz="2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Empretech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Blend Food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2AP Signal Connetion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Epifanía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Gestión Litoral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Empresas Radicadas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Laboratorio Zoovet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7" name="15 CuadroTexto"/>
          <p:cNvSpPr/>
          <p:nvPr/>
        </p:nvSpPr>
        <p:spPr>
          <a:xfrm>
            <a:off x="500040" y="157176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Franklin Gothic Demi"/>
              </a:rPr>
              <a:t>Parque Tecnológico Litoral Centro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"/>
          <p:cNvSpPr/>
          <p:nvPr/>
        </p:nvSpPr>
        <p:spPr>
          <a:xfrm>
            <a:off x="571680" y="13240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Incubación de Empresas: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5143680" y="2744640"/>
            <a:ext cx="3429000" cy="329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Empresas Incubadas</a:t>
            </a:r>
            <a:endParaRPr b="1" lang="en-US" sz="2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Hidratón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Protech Pharma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Incubatech S.A.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Bioparx 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Biocosmética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El Ce.Co.Vi,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0" name="9 Rectángulo"/>
          <p:cNvSpPr/>
          <p:nvPr/>
        </p:nvSpPr>
        <p:spPr>
          <a:xfrm>
            <a:off x="642960" y="3857760"/>
            <a:ext cx="3500280" cy="22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1" name="8 Imagen" descr="contenedorPTLC.jpg"/>
          <p:cNvPicPr/>
          <p:nvPr/>
        </p:nvPicPr>
        <p:blipFill>
          <a:blip r:embed="rId1"/>
          <a:stretch/>
        </p:blipFill>
        <p:spPr>
          <a:xfrm>
            <a:off x="714240" y="3929040"/>
            <a:ext cx="3353040" cy="2038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2" name="10 CuadroTexto"/>
          <p:cNvSpPr/>
          <p:nvPr/>
        </p:nvSpPr>
        <p:spPr>
          <a:xfrm>
            <a:off x="500040" y="188424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Franklin Gothic Demi"/>
              </a:rPr>
              <a:t>Parque Tecnológico Litoral Centro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0"/>
          <p:cNvSpPr/>
          <p:nvPr/>
        </p:nvSpPr>
        <p:spPr>
          <a:xfrm>
            <a:off x="546120" y="110952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Incubación de Empresas: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4572000" y="2389680"/>
            <a:ext cx="4000680" cy="370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Empresas Egresadas </a:t>
            </a:r>
            <a:endParaRPr b="1" lang="en-US" sz="2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Software Santa Fe 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It Media Publishing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Hidratón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EseTec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Pronobis. 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Overchem SA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- Bio Cisco Plant</a:t>
            </a: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marL="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5" name="10 Rectángulo"/>
          <p:cNvSpPr/>
          <p:nvPr/>
        </p:nvSpPr>
        <p:spPr>
          <a:xfrm>
            <a:off x="571680" y="2428920"/>
            <a:ext cx="2571480" cy="378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6" name="9 Imagen" descr="empresas_r2_c2.jpg"/>
          <p:cNvPicPr/>
          <p:nvPr/>
        </p:nvPicPr>
        <p:blipFill>
          <a:blip r:embed="rId1"/>
          <a:stretch/>
        </p:blipFill>
        <p:spPr>
          <a:xfrm>
            <a:off x="642960" y="2500200"/>
            <a:ext cx="2428920" cy="3635640"/>
          </a:xfrm>
          <a:prstGeom prst="rect">
            <a:avLst/>
          </a:prstGeom>
          <a:ln w="0">
            <a:noFill/>
          </a:ln>
        </p:spPr>
      </p:pic>
      <p:sp>
        <p:nvSpPr>
          <p:cNvPr id="77" name="11 CuadroTexto"/>
          <p:cNvSpPr/>
          <p:nvPr/>
        </p:nvSpPr>
        <p:spPr>
          <a:xfrm>
            <a:off x="500040" y="159876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Franklin Gothic Demi"/>
              </a:rPr>
              <a:t>Parque Tecnológico Litoral Centro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0"/>
          <p:cNvSpPr/>
          <p:nvPr/>
        </p:nvSpPr>
        <p:spPr>
          <a:xfrm>
            <a:off x="546120" y="1052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Franklin Gothic Demi"/>
              </a:rPr>
              <a:t>Radicación de Zelltek en el Parque Tecnológico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Franklin Gothic Demi"/>
              </a:rPr>
              <a:t>Litoral Centro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9" name="Picture 134" descr="zeltek"/>
          <p:cNvPicPr/>
          <p:nvPr/>
        </p:nvPicPr>
        <p:blipFill>
          <a:blip r:embed="rId1"/>
          <a:stretch/>
        </p:blipFill>
        <p:spPr>
          <a:xfrm>
            <a:off x="3635280" y="2205000"/>
            <a:ext cx="4897440" cy="3811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5" descr="parque1_r2_c2"/>
          <p:cNvPicPr/>
          <p:nvPr/>
        </p:nvPicPr>
        <p:blipFill>
          <a:blip r:embed="rId2"/>
          <a:srcRect l="4468" t="44472" r="11312" b="8794"/>
          <a:stretch/>
        </p:blipFill>
        <p:spPr>
          <a:xfrm>
            <a:off x="536400" y="2205000"/>
            <a:ext cx="3098880" cy="3816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8" descr="LOGO 2"/>
          <p:cNvPicPr/>
          <p:nvPr/>
        </p:nvPicPr>
        <p:blipFill>
          <a:blip r:embed="rId3"/>
          <a:srcRect l="0" t="0" r="0" b="14679"/>
          <a:stretch/>
        </p:blipFill>
        <p:spPr>
          <a:xfrm>
            <a:off x="539640" y="4930920"/>
            <a:ext cx="1368360" cy="11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"/>
          <p:cNvSpPr/>
          <p:nvPr/>
        </p:nvSpPr>
        <p:spPr>
          <a:xfrm>
            <a:off x="546120" y="1052640"/>
            <a:ext cx="8064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Incubadora de Empresas de ámbito regional </a:t>
            </a: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dear</a:t>
            </a:r>
            <a:endParaRPr b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3" name="8 Rectángulo"/>
          <p:cNvSpPr/>
          <p:nvPr/>
        </p:nvSpPr>
        <p:spPr>
          <a:xfrm>
            <a:off x="571680" y="4286160"/>
            <a:ext cx="2500200" cy="18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84" name="Picture 12" descr="IMG_1220"/>
          <p:cNvPicPr/>
          <p:nvPr/>
        </p:nvPicPr>
        <p:blipFill>
          <a:blip r:embed="rId1"/>
          <a:srcRect l="11842" t="15343" r="5079" b="7823"/>
          <a:stretch/>
        </p:blipFill>
        <p:spPr>
          <a:xfrm>
            <a:off x="642960" y="4376880"/>
            <a:ext cx="2378160" cy="1649160"/>
          </a:xfrm>
          <a:prstGeom prst="rect">
            <a:avLst/>
          </a:prstGeom>
          <a:ln w="6480">
            <a:solidFill>
              <a:srgbClr val="d9d9d9"/>
            </a:solidFill>
            <a:miter/>
          </a:ln>
        </p:spPr>
      </p:pic>
      <p:graphicFrame>
        <p:nvGraphicFramePr>
          <p:cNvPr id="85" name=""/>
          <p:cNvGraphicFramePr/>
          <p:nvPr/>
        </p:nvGraphicFramePr>
        <p:xfrm>
          <a:off x="3571920" y="1714680"/>
          <a:ext cx="4929120" cy="4619520"/>
        </p:xfrm>
        <a:graphic>
          <a:graphicData uri="http://schemas.openxmlformats.org/drawingml/2006/table">
            <a:tbl>
              <a:tblPr/>
              <a:tblGrid>
                <a:gridCol w="2465280"/>
                <a:gridCol w="2463840"/>
              </a:tblGrid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mprendimiento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roducto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spercol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olas Vinílicas y Adhesivos de contacto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screen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it para la detección de contaminantes en la leche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onos Gráficos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intas Inkjet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aboratorios S+V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rótesis para Bovinos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ssentiel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remas depitalorias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aes. Equipo Multifunción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quipos 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ijarg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abrica de remaches e aluminio macizos y semi huecos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ioaromas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ioaromatizantes a través de esencias naturales</a:t>
                      </a:r>
                      <a:endParaRPr b="1" lang="en-US" sz="9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Franklin Gothic Book"/>
              </a:rPr>
              <a:t>Convenio: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Franklin Gothic Book"/>
              </a:rPr>
              <a:t>Prefactibilidad de implantación de un Área Industrial en el distrito de Santo Tomé - Prov. de Santa F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Franklin Gothic Book"/>
              </a:rPr>
              <a:t>Universidad Nacional del Litoral y la Municipalidad de Santo Tomé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Franklin Gothic Book"/>
              </a:rPr>
              <a:t>Objetivos del estudio, Primera Fase (2000 - 2001):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Franklin Gothic Book"/>
              </a:rPr>
              <a:t>Identificar la localización óptima para la radicación de un área industrial a partir de características ambientales, económicas, normativas, sociales y urbano-regionales. Con herramientas de evaluación multi criterio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UNL – Parques Industriales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8:17:02Z</dcterms:created>
  <dc:creator>Vinculacion</dc:creator>
  <dc:description/>
  <dc:language>en-US</dc:language>
  <cp:lastModifiedBy>Daniel Scacchi</cp:lastModifiedBy>
  <dcterms:modified xsi:type="dcterms:W3CDTF">2008-05-29T13:20:02Z</dcterms:modified>
  <cp:revision>433</cp:revision>
  <dc:subject/>
  <dc:title>Diapositiva 1</dc:title>
</cp:coreProperties>
</file>